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7A8B-EBCB-4231-8D62-683286FA0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3939-F659-4FBB-B427-2E66A9EE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F380-7F04-406F-9163-BE80ACCD8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D636-18F2-4C5E-B9D7-FC9353AB0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4E61-A301-425F-9980-B1DCC1FD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17E5-B88F-41CD-8885-A7C6FA31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DAAD-DA8D-43EC-91A0-89E0E7F6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8216-37F2-4ACE-AA71-46ED62DC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3356-BE24-4FCF-BF8E-FB9FBC2B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96EC-9B4C-48E9-BB18-4F06209D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72B7-4786-481B-9461-AC3FFFC4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6824-7266-461E-8351-027DD3F8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FB71-6767-4595-B3F5-713523C91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692280"/>
            <a:ext cx="2016000" cy="100800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me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grat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2484360" y="1123920"/>
            <a:ext cx="1295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4360" y="765000"/>
            <a:ext cx="2448000" cy="865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 persone vanno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vere in un altro pae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443640" y="1341360"/>
            <a:ext cx="720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6443640" y="980640"/>
            <a:ext cx="86508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96360" y="692280"/>
            <a:ext cx="1295280" cy="72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vare u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vo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380360" y="1989000"/>
            <a:ext cx="1584360" cy="1368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ggire d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uazion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ili(esemp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er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50920" y="1773360"/>
            <a:ext cx="433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84360" y="2133720"/>
            <a:ext cx="2449440" cy="1657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 chi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do in un pae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ivano stranieri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vere e cercare lavo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350028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0360" y="3500280"/>
            <a:ext cx="1728720" cy="1224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It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iv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prattutto d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51640" y="5084640"/>
            <a:ext cx="1513080" cy="792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/Alb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6300360" y="4724280"/>
            <a:ext cx="35892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19640" y="5229360"/>
            <a:ext cx="216072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 Euro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1844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2492280"/>
            <a:ext cx="2016000" cy="187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 chi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GR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do le pers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 un paese se 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nno all’ estero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vere e cer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vo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4149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581360"/>
            <a:ext cx="2124000" cy="1987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i italiani son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 emigranti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ti pae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, anche se me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 una volt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 sono an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gg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501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16360" y="4797360"/>
            <a:ext cx="1512720" cy="647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700360" y="5516640"/>
            <a:ext cx="216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24000" y="6093000"/>
            <a:ext cx="1224000" cy="549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e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64000" y="551664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6093000"/>
            <a:ext cx="57492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67280" y="558972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56000" y="6093000"/>
            <a:ext cx="1368360" cy="549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740720" y="4581360"/>
            <a:ext cx="503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5T09:50:57Z</dcterms:created>
  <dc:creator>studente</dc:creator>
  <dc:description/>
  <dc:language>en-US</dc:language>
  <cp:lastModifiedBy>studente</cp:lastModifiedBy>
  <dcterms:modified xsi:type="dcterms:W3CDTF">2016-12-05T10:32:41Z</dcterms:modified>
  <cp:revision>2</cp:revision>
  <dc:subject/>
  <dc:title>Diapositiva 1</dc:title>
</cp:coreProperties>
</file>